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316-6805-4932-A1A9-8BA52796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ED2-E86D-4522-B92A-746E3554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11B6-8EBF-4773-B7C3-7DED37EC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64F5-AFA0-4CCE-AAB5-73DCDF7B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ED98-A649-41EE-A8D9-06A1D785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E1EE-5521-44EA-BA5D-3C1D95B2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0BC0-A7D9-4AEA-9904-86A13618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983D-AAA9-4F35-A164-D3ED1696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3ADC-C19D-48DD-A00D-38A064E8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FAFD-D868-400C-981F-96CE7276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80AE-58A2-4FDB-93BD-B2421C76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B2DC-5BA1-499F-A853-50B7809F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533B-7EAC-40B4-8511-74C317D6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D099-9A84-42E3-B3F1-951DC66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FFF8-75E3-4F78-8834-F7092BBB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323F-A798-449D-A6A0-17B3E7FD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B05-B16B-4503-A21F-D089637C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76E-C024-4F7A-862A-160714BB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B27-1C60-4EDE-9442-56EEC3EE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E35-1B38-47D9-A7C9-AB421721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2B15-106A-416A-AF18-1EBFC043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0308-1BBC-4862-B96B-684E7627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D8F-F65A-434A-B2AD-8E311A7F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65D-95AA-41FA-B760-75876E5F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7e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286A-6737-44DE-9911-B0BECB79D77A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0072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00ac"/>
                </a:gs>
                <a:gs pos="100000">
                  <a:srgbClr val="00008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e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7F98-2E5A-4884-91CB-63D673E487D0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000160" y="1428840"/>
            <a:ext cx="5143680" cy="2836080"/>
          </a:xfrm>
          <a:prstGeom prst="rect">
            <a:avLst/>
          </a:prstGeom>
          <a:gradFill rotWithShape="0">
            <a:gsLst>
              <a:gs pos="0">
                <a:srgbClr val="000086"/>
              </a:gs>
              <a:gs pos="100000">
                <a:srgbClr val="0000ac"/>
              </a:gs>
            </a:gsLst>
            <a:lin ang="2700000"/>
          </a:gradFill>
          <a:ln w="9360">
            <a:solidFill>
              <a:srgbClr val="cc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ccffff"/>
                </a:solidFill>
                <a:latin typeface="Arial"/>
              </a:rPr>
              <a:t>ADMINISTRACIÓN DE CONSORCIOS DE P.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98560" y="5429160"/>
            <a:ext cx="73454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c. Santiago A. Pontor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539640" y="774720"/>
            <a:ext cx="8064720" cy="52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4. De la Desinse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Realiza Servici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n caso afirmativ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Certificado de Desinsectación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Servici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azón Social de la 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539640" y="1582560"/>
            <a:ext cx="806472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5. De la Conservación de Ascens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última inspec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intervinie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Responsable Técnic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Matrícul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539640" y="1312920"/>
            <a:ext cx="80647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6. De la Conservación de la Fach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ntigüedad del inmuebl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orresponde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resenta Certificado de Conservación Ley 257/99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resenta Informe Técnico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Informe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 de Conservación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571680" y="1697040"/>
            <a:ext cx="799920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Certificado de Edificio Segu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otorga Certificado de Edificio Seguro?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emisión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lazo en días otorgado por el profesional para efectuar las mejoras observad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ffff"/>
                </a:solidFill>
                <a:latin typeface="Tahoma"/>
              </a:rPr>
              <a:t>INGRESO Y EGRESO DE PROVEEDORES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GRESO:                     Fecha      /   /                     Horar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ub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estad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ellido y Nombre Personal Autor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U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guro / A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GRESO:                       Fecha      /   /                     Horario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IRMA:                                   ACLARACIO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4 Conector recto"/>
          <p:cNvSpPr/>
          <p:nvPr/>
        </p:nvSpPr>
        <p:spPr>
          <a:xfrm>
            <a:off x="324000" y="1052640"/>
            <a:ext cx="839124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Disposición 415/11  Instalaciones fijas contra incendi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Consorci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ener Pla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Libro que proveerá el mantenedor (Libro de Act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Hacer anualmente el manteni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Hacer trimestralmente un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Tener el certificado de operatividad (lo otorga el        mantenedor, el duplicado va al libro de act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54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a tramitación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n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recae sobre los Administr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Disposición 2246/11 Máscaras de escape y</a:t>
            </a:r>
            <a:r>
              <a:rPr b="1" lang="es-ES" sz="2800" spc="-1" strike="noStrike">
                <a:solidFill>
                  <a:srgbClr val="ccffff"/>
                </a:solidFill>
                <a:latin typeface="Tahoma"/>
              </a:rPr>
              <a:t> </a:t>
            </a: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protección respiratoria para uso del personal</a:t>
            </a:r>
            <a:r>
              <a:rPr b="0" lang="es-ES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Suspendida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hasta 1/1/12 (por disposición 4381) ya que Defensa del Consumidor no conocía la función del INTI contrario a su uso por problemas técnic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ffff"/>
                </a:solidFill>
                <a:latin typeface="Tahoma"/>
              </a:rPr>
              <a:t>Empadronamiento</a:t>
            </a:r>
            <a:br>
              <a:rPr sz="5400"/>
            </a:br>
            <a:r>
              <a:rPr b="0" lang="es-ES" sz="5400" spc="-1" strike="noStrike">
                <a:solidFill>
                  <a:srgbClr val="ccffff"/>
                </a:solidFill>
                <a:latin typeface="Tahoma"/>
              </a:rPr>
              <a:t>C A B A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Resolución 2497/11</a:t>
            </a:r>
            <a:r>
              <a:rPr b="1" lang="es-ES" sz="28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2800"/>
            </a:br>
            <a:r>
              <a:rPr b="1" lang="es-ES" sz="2800" spc="-1" strike="noStrike" u="sng">
                <a:solidFill>
                  <a:srgbClr val="ccffff"/>
                </a:solidFill>
                <a:uFillTx/>
                <a:latin typeface="Tahoma"/>
              </a:rPr>
              <a:t>Secretaría de Trabajo de Buenos Aires</a:t>
            </a:r>
            <a:br>
              <a:rPr sz="2800"/>
            </a:br>
            <a:r>
              <a:rPr b="1" lang="es-ES" sz="2800" spc="-1" strike="noStrike">
                <a:solidFill>
                  <a:srgbClr val="ccffff"/>
                </a:solidFill>
                <a:latin typeface="Tahoma"/>
              </a:rPr>
              <a:t>www.buenosaires.gob.ar/apps/empleadores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Requier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- Información general de los empleadores: actividades económicas, domicilio fiscal, datos de registraciòn y C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Cantidad empleados y establecimientos en CA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Tipo de contra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Lugar de residencia y datos de los empleados: nacionalidad, instrucción, discapacidad, et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l final emite “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ahoma"/>
              </a:rPr>
              <a:t>constancia anual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”, par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Rúbrica documentación labo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Inspector del Ministerio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900000" y="1484280"/>
            <a:ext cx="338472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dministr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mune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Órd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scens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146560" y="1484280"/>
            <a:ext cx="3818160" cy="47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rop. Inmue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nist. de Trabaj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ob. CA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úblico.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6 Cerrar llave"/>
          <p:cNvSpPr/>
          <p:nvPr/>
        </p:nvSpPr>
        <p:spPr>
          <a:xfrm>
            <a:off x="4427640" y="2133720"/>
            <a:ext cx="360360" cy="11509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0920"/>
              <a:gd name="textAreaBottom" fmla="*/ 1100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9"/>
                  <a:pt x="10800" y="3017"/>
                </a:cubicBezTo>
                <a:lnTo>
                  <a:pt x="10800" y="3089"/>
                </a:lnTo>
                <a:cubicBezTo>
                  <a:pt x="10800" y="4598"/>
                  <a:pt x="16200" y="6106"/>
                  <a:pt x="21600" y="6106"/>
                </a:cubicBezTo>
                <a:cubicBezTo>
                  <a:pt x="16200" y="6106"/>
                  <a:pt x="10800" y="7615"/>
                  <a:pt x="10800" y="9123"/>
                </a:cubicBezTo>
                <a:lnTo>
                  <a:pt x="10800" y="18583"/>
                </a:lnTo>
                <a:cubicBezTo>
                  <a:pt x="10800" y="2009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7 Cerrar llave"/>
          <p:cNvSpPr/>
          <p:nvPr/>
        </p:nvSpPr>
        <p:spPr>
          <a:xfrm>
            <a:off x="4427640" y="3533760"/>
            <a:ext cx="360360" cy="1152720"/>
          </a:xfrm>
          <a:custGeom>
            <a:avLst/>
            <a:gdLst>
              <a:gd name="textAreaLeft" fmla="*/ 0 w 360360"/>
              <a:gd name="textAreaRight" fmla="*/ 129960 w 360360"/>
              <a:gd name="textAreaTop" fmla="*/ 50040 h 1152720"/>
              <a:gd name="textAreaBottom" fmla="*/ 11026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7"/>
                  <a:pt x="10800" y="3013"/>
                </a:cubicBezTo>
                <a:lnTo>
                  <a:pt x="10800" y="3093"/>
                </a:lnTo>
                <a:cubicBezTo>
                  <a:pt x="10800" y="4600"/>
                  <a:pt x="16200" y="6106"/>
                  <a:pt x="21600" y="6106"/>
                </a:cubicBezTo>
                <a:cubicBezTo>
                  <a:pt x="16200" y="6106"/>
                  <a:pt x="10800" y="7613"/>
                  <a:pt x="10800" y="9119"/>
                </a:cubicBezTo>
                <a:lnTo>
                  <a:pt x="10800" y="18587"/>
                </a:lnTo>
                <a:cubicBezTo>
                  <a:pt x="10800" y="2009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96" name="9 Conector recto de flecha"/>
          <p:cNvCxnSpPr/>
          <p:nvPr/>
        </p:nvCxnSpPr>
        <p:spPr>
          <a:xfrm>
            <a:off x="4233960" y="519588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97" name="10 Conector recto de flecha"/>
          <p:cNvCxnSpPr/>
          <p:nvPr/>
        </p:nvCxnSpPr>
        <p:spPr>
          <a:xfrm>
            <a:off x="4233960" y="58658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286000" y="3096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S OBLIGATO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900000" y="1484280"/>
            <a:ext cx="3959280" cy="58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Lib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ol Sanitario y 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ol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greso y Egreso de Proveedor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146560" y="1484280"/>
            <a:ext cx="3818160" cy="54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Rúb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ú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g. Pu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. Publico Ad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2" name="9 Conector recto de flecha"/>
          <p:cNvCxnSpPr/>
          <p:nvPr/>
        </p:nvCxnSpPr>
        <p:spPr>
          <a:xfrm>
            <a:off x="4284720" y="3212640"/>
            <a:ext cx="721440" cy="252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03" name="9 Conector recto de flecha"/>
          <p:cNvCxnSpPr/>
          <p:nvPr/>
        </p:nvCxnSpPr>
        <p:spPr>
          <a:xfrm>
            <a:off x="4500720" y="450864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  <p:cxnSp>
        <p:nvCxnSpPr>
          <p:cNvPr id="104" name="9 Conector recto de flecha"/>
          <p:cNvCxnSpPr/>
          <p:nvPr/>
        </p:nvCxnSpPr>
        <p:spPr>
          <a:xfrm>
            <a:off x="4427640" y="5950080"/>
            <a:ext cx="721440" cy="2160"/>
          </a:xfrm>
          <a:prstGeom prst="straightConnector1">
            <a:avLst/>
          </a:prstGeom>
          <a:ln w="28440">
            <a:solidFill>
              <a:srgbClr val="ffff99"/>
            </a:solidFill>
            <a:miter/>
            <a:tailEnd len="med" type="arrow" w="med"/>
          </a:ln>
        </p:spPr>
      </p:cxn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332000" y="30960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DE REGISTRO DE FIRM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19280" y="1247760"/>
            <a:ext cx="77054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idad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is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t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c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léfon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centu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omicilio constituid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d. Post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ertificad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ráct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6440" y="3096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SANITARIO Y AGUA POTAB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441360" y="1197000"/>
            <a:ext cx="826128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mbre de la Empres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Registr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echa de limpieza de tan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del análisis del agua potable:    Apto / No ap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Administrador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rma del Director Técnic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lar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11 Conector recto"/>
          <p:cNvSpPr/>
          <p:nvPr/>
        </p:nvSpPr>
        <p:spPr>
          <a:xfrm>
            <a:off x="250920" y="50133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5 Conector recto"/>
          <p:cNvSpPr/>
          <p:nvPr/>
        </p:nvSpPr>
        <p:spPr>
          <a:xfrm>
            <a:off x="250920" y="322416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36440" y="31284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ffff"/>
                </a:solidFill>
                <a:latin typeface="Arial"/>
              </a:rPr>
              <a:t>LIBRO CONTROL DE SEGURIDAD EDILI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50920" y="1197000"/>
            <a:ext cx="864216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Administr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 o Razón Social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RP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xhibe certificado en sector visible del edificio segú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. Nº 3205/DGDYPC/10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Arial"/>
              </a:rPr>
              <a:t>Datos del Profe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ombre y Apellido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NI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UIL/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gistro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Encomienda Profesional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ejo Profesional al que pertenece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ítulo habilit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0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mpañía ART y/o Seguro de Accidentes Personales: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Nº Póliz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Conector recto"/>
          <p:cNvSpPr/>
          <p:nvPr/>
        </p:nvSpPr>
        <p:spPr>
          <a:xfrm>
            <a:off x="250920" y="981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5 Conector recto"/>
          <p:cNvSpPr/>
          <p:nvPr/>
        </p:nvSpPr>
        <p:spPr>
          <a:xfrm>
            <a:off x="250920" y="3213000"/>
            <a:ext cx="8642160" cy="0"/>
          </a:xfrm>
          <a:prstGeom prst="line">
            <a:avLst/>
          </a:prstGeom>
          <a:ln w="9360">
            <a:solidFill>
              <a:srgbClr val="cce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539640" y="274680"/>
            <a:ext cx="8064720" cy="65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1. De los Matafuegos y Protección Contra Incend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antidad de Matafueg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Cumple con la dotación mínima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el control periódico trimestral según norm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 proveedor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Disposición 2614-DGDyPC/2008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Cumple con la Recarga Anual obligatoria según normas vigent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encuentran los extintores ubicados en espacios comunes, accesibles y visible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Se verifica que la chapa baliza se adecúa al extint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nicho de incend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l nicho está completo según normativa vigent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539640" y="428760"/>
            <a:ext cx="80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2. De las Calde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caldera/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n habilitad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Posee Seguro de R.C. para las misma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añía Asegurado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óliza Nº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l último Certificado de Verificación Periódic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encimiento del Certificad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ítulo habilitante del Profesional Certificant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o Colegio Profesional habilitant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trícula Nº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iste Planilla de Verificación de mantenimiento Periód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539640" y="504720"/>
            <a:ext cx="8064720" cy="57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99"/>
                </a:solidFill>
                <a:latin typeface="Arial"/>
              </a:rPr>
              <a:t>3. De la Limpieza de los Tan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Posee Libro de Control Sanitario y Agua Potabl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¿Se encuentra en el edifici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stá firmado por el Director Técnico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Apertura ante Escribano Públ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mbre y Apellido del Director Técn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echa de vencimiento de la última limpieza realizad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I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º de Registro de la Empres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Exhibe el Certificado según Resolución Nº 6/APRA/11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58920" indent="-358920">
              <a:lnSpc>
                <a:spcPct val="100000"/>
              </a:lnSpc>
              <a:spcBef>
                <a:spcPts val="18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servacion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18:58:38Z</dcterms:created>
  <dc:creator>Daniel Cirigliano</dc:creator>
  <dc:description/>
  <dc:language>en-US</dc:language>
  <cp:lastModifiedBy>Hernán Castillejo</cp:lastModifiedBy>
  <dcterms:modified xsi:type="dcterms:W3CDTF">2012-04-23T15:13:27Z</dcterms:modified>
  <cp:revision>70</cp:revision>
  <dc:subject/>
  <dc:title>Diapositiva 1</dc:title>
</cp:coreProperties>
</file>